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applause.wav" ContentType="audio/x-wav"/>
  <Override PartName="/ppt/media/image16.png" ContentType="image/png"/>
  <Override PartName="/ppt/media/drumroll.wav" ContentType="audio/x-wav"/>
  <Override PartName="/ppt/media/image17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A99-040F-4CC5-91D1-0FFA67B1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D9B-69C7-4540-9E75-0AE9216D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A80-2941-459D-8536-0E76AF84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048-6CC2-42C7-A276-A9C2EB4D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B25C-7B02-4C08-AFFD-3EC2B8FD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7AB7-8644-4467-827A-1B78C97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14D0-116F-4DEA-9447-A4C5767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0043-4313-4CE7-8F91-AB9AD3AC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6CEE-F382-4A94-9D42-C103E336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C693-2D61-42C7-971A-AEEE8661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C914-6819-4D25-BD69-6C92A85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833-A686-41DA-8F25-26FE9FB1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6B12-5C25-4CD0-BDE8-C395563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B3FF-5CE3-4727-8EF7-2C4BCB49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EE45-1838-4E5F-B061-32C7CFE4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872B-DABD-4896-BB40-5C843BA3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89F2-128B-498C-96D3-A391FE31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F5D-2253-4B5F-BBE2-11067A37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7F9-AA7A-4045-BC09-7C3D01D1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2D8-4AE8-45B6-8884-19507758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804-C4B1-4D1F-A6DF-4EEF800E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D61-53B5-4473-9AC5-85190C45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0DF-5147-466B-A219-41EA9744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590-4937-4BBE-9E04-25990A8C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DE45-0CEC-4791-8832-EBB7B0E4B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D0EB-21E3-4F34-B64B-D31B38C07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59436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Ch'I-lin Purs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2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17" descr="THE CH'I-LIN PURSE"/>
          <p:cNvPicPr/>
          <p:nvPr/>
        </p:nvPicPr>
        <p:blipFill>
          <a:blip r:embed="rId1"/>
          <a:stretch/>
        </p:blipFill>
        <p:spPr>
          <a:xfrm>
            <a:off x="5951520" y="152280"/>
            <a:ext cx="2982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04960" y="19047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thy of reverenc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114800" y="457200"/>
            <a:ext cx="327672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86200" y="19807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erson who has given money or kindly hel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809880" y="609480"/>
            <a:ext cx="38102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MCBD05543_0000[1]"/>
          <p:cNvPicPr/>
          <p:nvPr/>
        </p:nvPicPr>
        <p:blipFill>
          <a:blip r:embed="rId1"/>
          <a:stretch/>
        </p:blipFill>
        <p:spPr>
          <a:xfrm>
            <a:off x="152280" y="1523880"/>
            <a:ext cx="3575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acher said that 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ehavi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hallway was gr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y of ac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teachers obser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219320" y="3809880"/>
            <a:ext cx="5943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family considers this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cr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ess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895480" y="3657600"/>
            <a:ext cx="3048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stonish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the prizes they gave 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v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pri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124080" y="44956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decided to express 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atitu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c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ankful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sponsibili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0" y="3657600"/>
            <a:ext cx="4038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’ll start the program after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ces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ov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oup marching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oup singing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295280" y="3733920"/>
            <a:ext cx="62485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assist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stribu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pamphle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ig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ing out in shar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752480" y="4572000"/>
            <a:ext cx="6019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comme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atching that dv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gg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f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66880" y="3276720"/>
            <a:ext cx="3276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219320"/>
            <a:ext cx="365760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80880" y="2209680"/>
            <a:ext cx="28195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3352680"/>
            <a:ext cx="37335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57200" y="4495680"/>
            <a:ext cx="380988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2120" y="5562720"/>
            <a:ext cx="373356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419720" y="1295280"/>
            <a:ext cx="388620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419720" y="2286000"/>
            <a:ext cx="373356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876920" y="5181480"/>
            <a:ext cx="350496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4876920" y="3657600"/>
            <a:ext cx="29718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504960" y="19047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ustoms or beliefs handed down from generation to gener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962520" y="457200"/>
            <a:ext cx="342900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MCj04322510000[1]"/>
          <p:cNvPicPr/>
          <p:nvPr/>
        </p:nvPicPr>
        <p:blipFill>
          <a:blip r:embed="rId1"/>
          <a:stretch/>
        </p:blipFill>
        <p:spPr>
          <a:xfrm>
            <a:off x="609480" y="685800"/>
            <a:ext cx="2286000" cy="173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MCj04351310000[1]"/>
          <p:cNvPicPr/>
          <p:nvPr/>
        </p:nvPicPr>
        <p:blipFill>
          <a:blip r:embed="rId2"/>
          <a:stretch/>
        </p:blipFill>
        <p:spPr>
          <a:xfrm>
            <a:off x="228600" y="2514600"/>
            <a:ext cx="1635120" cy="1841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MPj02899260000[1]"/>
          <p:cNvPicPr/>
          <p:nvPr/>
        </p:nvPicPr>
        <p:blipFill>
          <a:blip r:embed="rId3"/>
          <a:stretch/>
        </p:blipFill>
        <p:spPr>
          <a:xfrm>
            <a:off x="2209680" y="4191120"/>
            <a:ext cx="1782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35232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nner of behaving; way of act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886200" y="609480"/>
            <a:ext cx="37339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MPj04309860000[1]"/>
          <p:cNvPicPr/>
          <p:nvPr/>
        </p:nvPicPr>
        <p:blipFill>
          <a:blip r:embed="rId1"/>
          <a:stretch/>
        </p:blipFill>
        <p:spPr>
          <a:xfrm>
            <a:off x="304920" y="1600200"/>
            <a:ext cx="3429000" cy="2287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MCj04377890000[1]"/>
          <p:cNvPicPr/>
          <p:nvPr/>
        </p:nvPicPr>
        <p:blipFill>
          <a:blip r:embed="rId2"/>
          <a:stretch/>
        </p:blipFill>
        <p:spPr>
          <a:xfrm>
            <a:off x="6019920" y="4724280"/>
            <a:ext cx="1828800" cy="1870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MCj04378030000[1]"/>
          <p:cNvPicPr/>
          <p:nvPr/>
        </p:nvPicPr>
        <p:blipFill>
          <a:blip r:embed="rId3"/>
          <a:stretch/>
        </p:blipFill>
        <p:spPr>
          <a:xfrm>
            <a:off x="2362320" y="4572000"/>
            <a:ext cx="18604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657600" y="205704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t or process of giving some of to each; dividing and giving out in sha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581280" y="609480"/>
            <a:ext cx="40388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MCj03916920000[1]"/>
          <p:cNvPicPr/>
          <p:nvPr/>
        </p:nvPicPr>
        <p:blipFill>
          <a:blip r:embed="rId1"/>
          <a:stretch/>
        </p:blipFill>
        <p:spPr>
          <a:xfrm>
            <a:off x="304920" y="2057400"/>
            <a:ext cx="3274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surprised greatly; amaze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657600" y="304920"/>
            <a:ext cx="38098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MCj04174620000[1]"/>
          <p:cNvPicPr/>
          <p:nvPr/>
        </p:nvPicPr>
        <p:blipFill>
          <a:blip r:embed="rId1"/>
          <a:stretch/>
        </p:blipFill>
        <p:spPr>
          <a:xfrm>
            <a:off x="6629400" y="4800600"/>
            <a:ext cx="1481040" cy="1789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MPj04224030000[1]"/>
          <p:cNvPicPr/>
          <p:nvPr/>
        </p:nvPicPr>
        <p:blipFill>
          <a:blip r:embed="rId2"/>
          <a:stretch/>
        </p:blipFill>
        <p:spPr>
          <a:xfrm>
            <a:off x="380880" y="228600"/>
            <a:ext cx="2606760" cy="373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MPj03864000000[1]"/>
          <p:cNvPicPr/>
          <p:nvPr/>
        </p:nvPicPr>
        <p:blipFill>
          <a:blip r:embed="rId3"/>
          <a:stretch/>
        </p:blipFill>
        <p:spPr>
          <a:xfrm>
            <a:off x="838080" y="4267080"/>
            <a:ext cx="365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657240" y="17524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Kindly feeling because of a favor received; desire to do a favor in return;  thankful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809880" y="3049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8" descr="MPj04222920000[1]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657240" y="16761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omething that moves forward; persons marching or rid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09880" y="457200"/>
            <a:ext cx="38862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11" descr="MCj00788170000[1]"/>
          <p:cNvPicPr/>
          <p:nvPr/>
        </p:nvPicPr>
        <p:blipFill>
          <a:blip r:embed="rId1"/>
          <a:stretch/>
        </p:blipFill>
        <p:spPr>
          <a:xfrm>
            <a:off x="685800" y="609480"/>
            <a:ext cx="3057480" cy="1586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MCj04106890000[1]"/>
          <p:cNvPicPr/>
          <p:nvPr/>
        </p:nvPicPr>
        <p:blipFill>
          <a:blip r:embed="rId2"/>
          <a:stretch/>
        </p:blipFill>
        <p:spPr>
          <a:xfrm>
            <a:off x="533520" y="2666880"/>
            <a:ext cx="29718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 speak in favor of; suggest favorabl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657600" y="304920"/>
            <a:ext cx="38098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7" descr="MPj04332020000[1]"/>
          <p:cNvPicPr/>
          <p:nvPr/>
        </p:nvPicPr>
        <p:blipFill>
          <a:blip r:embed="rId1"/>
          <a:stretch/>
        </p:blipFill>
        <p:spPr>
          <a:xfrm>
            <a:off x="533520" y="1219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MCj04348590000[1]"/>
          <p:cNvPicPr/>
          <p:nvPr/>
        </p:nvPicPr>
        <p:blipFill>
          <a:blip r:embed="rId2"/>
          <a:stretch/>
        </p:blipFill>
        <p:spPr>
          <a:xfrm>
            <a:off x="2590920" y="4419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ynne M. Gorman</cp:lastModifiedBy>
  <dcterms:modified xsi:type="dcterms:W3CDTF">2012-01-27T15:36:56Z</dcterms:modified>
  <cp:revision>46</cp:revision>
  <dc:subject/>
  <dc:title>Frindle Vocabulary Words</dc:title>
</cp:coreProperties>
</file>